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01C-3E6D-4828-9805-750029E1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35F-B413-4109-906E-757FACC4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A41-9DF8-471F-95FB-AFE34AC7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822-FEC7-4D46-B064-2610BD29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040-DCBF-41A4-ACD5-F5E5E5E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67C-DA0A-409E-8245-83E4CB8F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9C9-4123-4A9D-B5CA-8D241CC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676-A57B-42B7-8C61-BFBC9D95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290-2BE1-4F0C-B5C3-4780A7D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D92-C04A-4014-A1C7-E060E5D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255-1FA5-4F71-A62B-5C4EECB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849-0710-4B46-A3F4-42F04562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2477-F6C5-4728-9B86-8BF5B6EEB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2 Jak víťaz letí vesmír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víťaz letí vesmír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kriesený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tajuplným priestor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 nebies 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žiaru telies ohni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láva jeho skv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hviezdnych diaľk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oni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Haleluja!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 sláve neba preb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dsa blízko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Hviezda večne žiariv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šíri mieru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uh tvorst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a začí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všetko má stred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vety diaľne pohý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život náš má zdr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1:30:54Z</dcterms:modified>
  <cp:revision>35</cp:revision>
  <dc:subject/>
  <dc:title>Je veľký náš Pán, on slávy je Kráľ Nech do všetkých strán  spev vrúcnych znie chvál.</dc:title>
</cp:coreProperties>
</file>